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  <p:sldId id="281" r:id="rId58"/>
    <p:sldId id="282" r:id="rId59"/>
    <p:sldId id="283" r:id="rId60"/>
    <p:sldId id="284" r:id="rId61"/>
    <p:sldId id="285" r:id="rId62"/>
    <p:sldId id="286" r:id="rId63"/>
    <p:sldId id="287" r:id="rId6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slide" Target="slides/slide26.xml"/><Relationship Id="rId59" Type="http://schemas.openxmlformats.org/officeDocument/2006/relationships/slide" Target="slides/slide27.xml"/><Relationship Id="rId60" Type="http://schemas.openxmlformats.org/officeDocument/2006/relationships/slide" Target="slides/slide28.xml"/><Relationship Id="rId61" Type="http://schemas.openxmlformats.org/officeDocument/2006/relationships/slide" Target="slides/slide29.xml"/><Relationship Id="rId62" Type="http://schemas.openxmlformats.org/officeDocument/2006/relationships/slide" Target="slides/slide30.xml"/><Relationship Id="rId63" Type="http://schemas.openxmlformats.org/officeDocument/2006/relationships/slide" Target="slides/slide31.xml"/><Relationship Id="rId64" Type="http://schemas.openxmlformats.org/officeDocument/2006/relationships/slide" Target="slides/slide32.xml"/><Relationship Id="rId6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4C916-E951-4A2E-AC05-CF293BB5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A0F6-7890-496C-B10E-291B79B2B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8DEEF2-C9C5-4251-A0BC-40A7340E6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3A628-E160-4DB4-BE3A-01750A08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6040FD-ED5F-4AFE-9240-5425CD593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23761-B8DE-4B3A-9774-DD3717B20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63318F-4863-49A8-AF92-BB41E2DE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982254-A3E6-4046-B425-EFFE0441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2D0A1-88E1-4D72-924D-6EC5184EB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A0342-2D0F-4128-A22D-54D79EB7A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DB5527-F179-41BD-8C39-84784777F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AE4A6D-86EB-46FC-9769-1E6A9F0E4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8DEE-E9A5-4BFC-B5F2-B962C5A9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E11E16-A520-4D68-9A40-CF734547B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A03E21-15EB-41F0-A57C-2B50BAE55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561EB9-F07D-4B5F-9F92-4F8503D1D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6D5350-E502-4CA8-A89E-C1C9ACB94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A5CA9D-8E5B-43BB-B1E8-73ECBC1FA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5A8AD3-9D96-4EB0-843B-19F21924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9BD7DC-ACA9-4D96-9678-94085BF6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F0063-066D-437A-9CA3-E036AA9CA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E7E68-2CEE-4BBA-91B3-9E256474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C2D7A0-A578-486A-BD73-6F94B596F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EE27-345A-4F2C-8C1D-8CC8C5329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EE24B2-CD70-4BD1-825D-A3A3CEB9B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4CC6F4-7F7B-4897-BE11-393B82A02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6F810D1-082D-4F70-B107-6D38AD4F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D3898-3678-443C-ADFD-75EED2916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AAFB8-4B62-43B6-B0C5-418C0DF44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6A1A57-9D17-48FE-A04B-468B04E84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1448D1-88AB-4811-8122-61B2C4947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D8BB60-2BEE-454A-B623-BAB1F5E57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FE69EF-838B-4DC6-9F8F-67099A4E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1B2416-860F-4C43-9F62-8209ED8C0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7E09C-9E69-41A5-A7BB-7AFCC8A4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010730-F33E-4BE5-ABE6-F34753F21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96BEFC-CF7A-4A06-BC20-117016D61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56B4F5-3991-4500-B4E4-E0C115B68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2A9E8-72FE-43D0-B4A9-DBD4C759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B3CC528-D59E-4387-BA68-C49DE54D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E939F4-D7AD-4AA0-80F1-1019D0A00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5E22F1-F7BD-4B8B-B40B-3B2776547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C78EAF-73BB-4FEE-A080-390838E3A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BB8559-8A95-4011-B3A4-4865D6BA3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ADF8BA-F6CF-4B24-8A45-70324782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20244-66D1-4DCC-930F-C3BB5F74E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4AFCF8-8BC6-4E06-ADB6-13E1D81E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4FA20E-0BF8-4488-A690-59AEB218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AE226B-098F-4955-8DC9-CE284952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1C4F10-8661-4FD0-9EE4-728850830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7AEDB3-D392-4057-8E26-51D589733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214B92-C2D6-4611-87E0-76E55E0E0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D8B3ED-BBCC-4754-BCC7-2CE60FE05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C8A5AA-A310-478B-B27F-792377A2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E241E-DF4A-4D37-A4C6-2D583810B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F8283A-BC86-42F9-B264-77E7D589C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650F1-9E3C-4362-9095-2036F8F6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E975AFB-9A0B-4720-B546-71C78E338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56D6D1-F970-48C3-820D-160FC94E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BE9492-A678-458D-8294-4B9678100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C7F5D1A-E2EC-4E4D-B44F-D143AE83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3F3A7C-3BF7-4067-ADE0-4FEFF9FD5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69A6FAD-265A-4BBD-A470-83636ACA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1B540-0D56-48FE-8B56-73149A167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0834961-7858-4496-A446-225A96FA8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47D78D-1E31-4ED9-BA4E-23CEA2C27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F40593-BCFD-43FA-B734-92E832D4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943B4-62A9-47EA-BC3D-75F99C327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F1DF7F-E541-4738-B3A3-17AF7A0E0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C8D50DD-10BD-4987-AAB9-FA3F85344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998C17D-AF32-4F95-882E-BF74F7030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2BBC9-B373-4336-A3D5-FBCB6772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9E875-2DBC-48F9-A9BC-6EE6E19C1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12F312-8E78-43D6-9525-0E883D75F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EDB630-D0AE-42F2-9526-16C5DAF7C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AAC272-EC8E-4623-9B55-DE35A994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3549E6-831D-4924-9CDB-C553A711E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A45C86-A86F-4A21-8426-2E8D8E7E3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A25DE5-E9F4-41CE-84D4-15072C677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5B3A33-CDA6-4835-8003-2304FA5AA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6EB436-B330-4753-9A92-9825D47B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C90768-674C-4268-A1F6-675F5E9CC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9DEC4B-2809-4E3F-A474-526B8CBE8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1A15667-127F-408C-A016-BDB9D522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49FAC2-4DA6-46D7-88FF-557448CE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AC78A-BBEB-47CC-8F92-AACFEDAD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A131B9-F012-451A-AB2D-71363657A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615AC6-BC4C-42B3-8D3D-DFA3BA06D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78771A-F2EB-4A4F-BECE-038905F0A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5D59-0AA0-4211-B96E-6570417BC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C10180-9BCA-4360-8F32-7D129274A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80BD5C-55D3-482D-9988-9CACEFA119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FCC1F-993E-490E-9052-E4A0DE27A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6711F7-A711-44C5-99DD-52D1B39B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E06EBE-84AA-4565-A443-A03EA2848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06BDA-C7EB-4F7E-9973-5804BA57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826E60-5BF3-4D0F-837E-191F338F5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53559D-E5E2-4D34-89EE-9B27B7FC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F5F08A-D3D6-44DF-A65A-C2F737927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284C36-9BC7-4611-939B-EF9367FF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F0817-72E6-4ACE-9937-5B72BBE47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4C4829-822D-4669-9BE4-AB22C10C7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B198377-18A5-4EDE-AE75-61D2138CF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616B3A3-37FF-48B3-B47A-FD755D1DD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AB80245-905A-480D-A217-316685D4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B345D5-8015-4526-888B-EA267595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1E7BC0-7393-4C42-A726-F17A7F8A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74EB70A-1ABC-4508-8EC4-6466F8B57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36FE52-65A3-4827-A565-CC3AE0499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AB191-85E5-4D1D-A3D1-CCADCB6C6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2D5FA84-C8D9-4447-A9DB-14C3F114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DEAC0-E3E5-4E15-A514-AD3581C61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E2A1-1118-4FA6-8069-9F01DEC0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75CBAC-9457-4029-A68F-9E3CD8A84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51023C-52D6-4E6B-86F2-4EB6BAB1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AECB2C-CC0A-4040-9D5A-94591CB76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BF68DD-C6E2-4AF7-92C3-172C913F8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D853D3-D9D4-4FF2-9AAE-9B821F06A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40092A-DB66-498D-A94A-39AD8815D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934FFF5-897B-4295-B865-2ED0889C4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146AB81-B93B-42D6-934F-4322431A8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13C4EB-FE21-4FB7-8B23-4558C8B01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1851D5-E27B-4865-9212-600EEFB6F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FA54-22C8-4151-B760-9E2E0881B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42E099-B93B-448C-9BEE-D59E2F588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DDA35D-2D99-45B8-B4CB-253B2383A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F1B971-70AC-4ACC-BA40-30C53B17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06BE6-3AEA-4550-8CDF-C6C2D62E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5A006F-02F6-4475-AD89-6B693A541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0B874A-D7CD-4C94-A04B-E79959B3C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32A812-810A-43B7-B4B9-CD048C29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8CC828-412F-448A-A7AC-9774CAD57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66A654-6E4A-4035-9EC0-3CCDD64B9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0C259FF-3CC3-4ABF-9BEE-7DE083700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8397-F769-4F7B-BDA2-1F3BF3725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6E4CE9-8514-465D-A80F-13DEEDEDB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227178-CF7A-435F-87E6-4BBC5F63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988645-669B-4738-8E66-39D28470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96A57B0-3199-4235-BF28-14886C6C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AA9BD2-F096-44FB-87C1-8E286945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B264A1-6763-443F-A2DA-FF1D7A46D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6764DD9-6A8D-46E8-A934-2BE5277E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0BA15E1-458D-4413-8D38-9F356E98D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6F5F9D1-8C3D-4765-8ABC-A5425C533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B4A1D-CFAA-43CD-BE39-2625788B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1F1F2-9D55-488E-BBBB-31F67EB0D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653C94-FBE6-491E-8B43-0AC7BAE1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8AA98C-FCFF-47AB-84C6-95E381CC6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BFB8C12-FC7E-4FB4-B3C0-F7C9DE7DC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FB653D1-DF4A-4C1C-800D-547B6554F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79CA703-4772-4788-BD6F-3F457DAC8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1ED1EB-B984-429D-9461-F3254521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A7A03E-BC79-4AA6-B9D0-38CAEE268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7037EB-B05F-4971-921E-0BB083F0E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1B45A4-177A-488A-88EC-196EE8C4C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857422-DAD4-47FE-A3D1-E99840064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4285F-F201-4510-ADD4-74B7F1C09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1F61ABB-DEC4-4314-970D-012CD6692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AA8F7C-A9EE-4E17-9E55-EECAFAE7C3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A98439C-292F-459F-9E58-A915A3434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6DFBD0-F8E4-4AAA-88C6-242685CA4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4995EC-2771-4B02-9B78-D6E788FF6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DE244A-1C98-43B3-B391-339D4560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3EDD03-650E-4600-8BEB-5D7BAA13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31282-9FBF-4F7B-98A8-E5B91F3A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F9DBE9-D220-4AF7-B8BC-0DB2F0826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C65705-85B3-4759-A0C0-559A06524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D6607D-AD94-476F-92DF-646E55F1E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4548E-6223-4C8C-9DF6-F464D5AC4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1AE2B2B-D099-4221-992E-772BF17B7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0F4B773-EE02-4C62-AAC0-78DF882FE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E163412-84B2-42AE-8F5F-B17E088E6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15A270-A842-4A65-AC62-25B10B47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43FB95-6BE7-40AA-91CC-22B9F8044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A7C4CF-2B7A-4494-B0C6-4372CFD5D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CC4C2C-9612-4AC7-9B1D-09789A28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A9D5A05-F9E9-477D-8CF1-655F5C4C5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09451F-CD25-46E3-8740-138BFEE5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4587CC-7F16-4D5C-8A3C-A7B124211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3077604-794D-440B-B9CB-45FE776AF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DB83A32-985F-4463-918B-85CB0EC9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F362BFB-284A-42D6-8117-6DFB3DFD0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6EDC31-1260-4C14-A9E1-89D4854B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0B420B-36F9-4D3B-8C92-205FEF90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27FF2AB-243E-49A0-87D7-739CA02FB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14B7A8-F424-499C-942C-993529FEB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DB1A68D-30AE-490C-A269-451B8555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88DA2C-3244-49D7-925C-D04A50E9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4DC5CA-39FD-4AF0-B953-F573EF2DC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86C5C-67A9-4E88-A39D-B1EA62478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5CDB71-DB96-4961-A5F9-F0D7C5CD8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F972102-623D-461A-BBE8-E7F24AD5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7C07FCC-C89B-47EB-82F9-11DF2E50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7793C23-736D-4175-A9D7-00F9BFDA6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5B85CE-6840-49E8-93D2-8571B2F06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82C2C3-BD2C-436D-AF34-228821179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C93E998-81E2-46B0-88EC-FA5A2F126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BEA96C-BD25-4AD6-B37C-A1193233C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DF34777-EBF5-4768-A022-06A887924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9FAD3E4-00DD-4CD1-AC2F-50349B6EC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C743EF-3B40-4D5C-8790-5E2DF7349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7710131-3AA7-4412-9D90-11AFCC7AC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B7299A-A6BE-495C-9961-60EF80BC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329E0B-8A63-438A-8CB8-6A65DC442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7619D91-6258-483A-AF62-552B7B370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CAE8644-0EF0-49A4-BDAD-70F436E6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F2027C2-23D0-401B-A69F-2C290AB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465A1E-B9F9-4EAD-9EA7-2085BA124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C76F58-99B5-4E4A-A627-38637C860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6CC311-4203-40D7-924F-864DE60CE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D9FBBB-1701-4C65-8D75-700458630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C0B5BD-9E14-499F-8E23-8498CF0A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A365BA1-5616-411E-AE01-292155963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F7A606-B5BF-4967-8140-74CA40F8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C106A90-FF02-40E2-96C0-3CBB4A2A2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6322DC-F6A8-465E-9EE2-2DAC698A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CD5F5D-0683-4587-BF8C-59F41FB41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36CAF2F-1F10-4E18-A9A4-84BA5A6A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1393615-9127-47DF-B1E2-B2ABCD54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DC0410A-F796-4E51-AFCD-AE1417EEA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B378302-4C73-48B0-BFD9-E98D74D36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B86B876-A2BA-49F7-8E91-E7CAA362A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4283-5378-4867-819D-A5FEA6204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6B995-ECBB-4A0D-914C-E872EF7B0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FC908C-91FE-4931-8346-18BBE97B6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FA2C571-1EC0-4838-AEDC-F388E03CA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4BCB88-6A6E-4EFC-9C44-E8EE45837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7FF7E3B-38D4-4294-9D4B-2BF1816F8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18FE942-BE0F-40A5-B218-7D77F6513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536A71F-B57A-4F16-A412-4C10B138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97D070B-5A56-4B5F-917E-A0F67D8ED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1E7EEED-9EC3-4552-B857-11735A911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CB27F95-A261-496D-A267-6D4D5967D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085933C-AAF6-4081-9DDF-249829761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57CB08-93CB-40AF-842E-00F366FDF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1145E2C-A9B8-47DA-A9E7-F23C49673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652C877-5EBB-4F59-B323-07ED70DAF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0B54E5C-7932-43C3-8182-1D9D1D3F2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1AB29A-1699-4733-B949-4D8E33D14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616A261-2487-420A-B079-D13E2F8B3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44E3C6-ABD3-46DC-A58E-7F51CDE1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8090090-A2EE-4723-9B0E-CABBDB57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B981B83-76A0-4216-A23D-6DBDAC61C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0507724-114D-43AB-A699-BAB46669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9C94190-AA50-4DCF-9AEE-3D993633D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52CCC-A661-4370-AAE5-8AE91663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0BE17B-9F80-40A9-A9ED-FF2B2C064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D9649E6-BA0C-4F82-A00A-34D69FD6E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E1C432E-F7AA-4C27-AB0F-99DC43355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1F01D70-E0D8-47A1-889B-3542EC050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5DCECEE-3F64-42A9-8DC3-13689129F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1B1584F-009B-4FE0-ACF4-2805D1A3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E5413CC-6E1A-415F-B914-6790CC0BF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50156BC-AFB2-4B93-93FD-3E7013203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E9C4E5-8632-4EA9-B5A6-81E08AA06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ADDEEC4-7F56-4015-9EAD-AADB97555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BE2D1E-1D7A-4E73-9AD6-AE9BC38E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4A36C77-30B7-483F-9FCB-D0F12C1FC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F8EC22-6175-4485-B22B-C2C42DC1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4833FA4-ADFB-4B78-BF1D-0ACA24EA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BAA9EED-08F0-4F34-9E60-94A3EB2B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CCB9B68-8043-4CC2-9936-88D46472F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636AB93-218D-4769-9576-52C0F1752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1477755-D2E5-4132-9420-0EAA75297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868C21-D4E1-4DD8-987B-D8A8A83E1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5AF65F8-FE7B-46C8-A87E-859D3E3C4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2A17C1F-6E34-4E28-BE9B-4D5ED3ABF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460D8-C0DF-4219-AC7B-E909185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806A4A-9F1E-47D8-A7CC-1E01DAB18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E2B347-2D80-49E6-AC5A-AE4ADCBD7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0156483-087F-40E7-B10E-977803BE8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884718-6A7B-480B-BD8A-6686FB3B3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7987D85-D174-4C04-B889-A74388F9E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182BDC9-FCD2-4BED-9192-D74F1822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393C33-1D83-44ED-B0E6-23DC2B39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767B0DD-9A5C-4BE0-842B-78DCB675D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2416982-613D-45D3-8C80-A297AE41D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ED0470A-F66D-42CB-8195-8667F4C3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959C2-1E0A-4A5D-A252-7775E1595E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D5CF99-63CE-409B-9660-04A3BBDBB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ECED1D-6ADD-40E3-997A-2D0441E85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1C297D9-EFA3-4DB6-965C-3DD4E3DA7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0827F12-3029-4258-81B7-0359D63D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106012-2DFA-4329-8C1A-BE812C3BB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DAB228E-6CB5-428C-B1BB-EB9523155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2AA2B10-4A35-4B45-8437-88FAC864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D32010-77D1-43EB-9D1D-1C67665C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6E40E85-5DAC-429C-AA24-2AD2C3AD1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0621F1-471E-4D56-A98B-1589D17FE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47799-9C48-47C4-A0B3-3BF3B02DD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02B34A-BFF0-471F-8359-2750ECADC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5436C1E-C1C3-45A3-B5CA-482A2AEAC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9B8289E-FDB4-44B0-BF06-F375A477C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10F214-864F-4E0B-8205-15DEE25E2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12D2848-2C95-4CCE-A739-C436EE6A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7B780EE-6A43-4FE1-BA08-0169CC9A1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F56702-0730-4862-ADAE-A5C3E988D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EEBF5D-8CFE-4991-8A0D-3B7C60A8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B086C82-2F4C-4830-9D54-9899D8483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97DB731-21DD-4DC6-913B-F6960E19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635A9C-9039-443E-BA75-D06833E6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7B5D71B-05AC-4392-8A3F-6E6860B0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21A0125-980F-440E-86D1-4F26F76EF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42920B0-3D4A-40B5-9F26-D5EE95E0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A039C5-7A00-4210-A2ED-31C33EBD1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3BE3C-A61E-44F2-9931-374CDF2E6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3EFB-1AE3-4D34-AF9E-CDC3DFD11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A3F31-5AC8-42AB-8CD8-939508675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1C83E2-039F-4F37-B6D9-E6B684180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CF9144-97E6-47E8-86B6-52DF9AFE2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5248AD-89E2-403B-8D04-946554FCD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F1329-8369-44E6-B12F-3F858E0E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B4A1D7-9AE8-4BF8-8275-60B3A37D5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207779-A3E9-48A4-B9A9-A5B1EEA5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27282-F0FA-467C-BBCF-9EDAEC512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308251-8366-47E1-8369-716DF099E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A1B3-02E0-4E27-BF0A-F68AC6AD3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C55E-D8EC-4F18-BEF8-A4A65052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937B6-767B-477B-A5C7-519D97451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D95C58-1160-487C-B78E-6C0B5D8CB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62A12-A08E-4F5B-90BD-5A48280D9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D6821E-C0F5-483E-8EC2-57B90299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52D0D-08BE-4BA5-B7A2-B6C703758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19D36B-89EF-4423-B660-E0434F55E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4F99D2-9D61-4174-865C-20A068E68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B0457A-5DEF-4C29-85F5-B9399B51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27304-8A7D-4C33-83D0-A295B222E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3F895-E873-44B9-904C-544DD6FE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B298-FB05-4682-9C6B-19095DF02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262F58-2A85-4B67-961F-5E4EC6D71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114527-9AE9-4D44-8DEF-F4EECC024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72844E-FFE9-445C-B6B6-9FA4DDAE2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2C8769-5A32-41F1-86B1-88D13A522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19EED4-1367-48EA-9DE1-0FF25FDE1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5D923-A45E-4911-8F32-2777FBED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4DFAA-45AB-4393-A280-C6F99F97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0F8E18-2A04-49A3-B8CF-A40EC850A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BDC71A-BF3B-4E6B-ADEE-A1FF494A6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F3D987-B593-447D-BBD8-987B6D436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AD4B-9D2A-43A4-A0FF-EB096D8FC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FD622-A318-4701-BF22-D4F6FE67A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4C23B-534D-4C72-98E8-CEE4E986E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9C90F-EFCF-43D2-A0AF-F35B6D005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2727E7-E305-412E-9012-C60F95249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C0A381-83F1-4D9B-AB04-D3C5520F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975341-B38C-4613-BAF9-7712F2504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CD439E-7F4A-408B-AC26-D20C25B9C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52C126-DE1B-4E89-BB9E-A662FF581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04652A-A650-4156-8B34-5299C9F61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23556-B47A-49A7-B5EB-76B0D8F3D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5F3B-2760-4F07-883C-4317D0D2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41F824-F100-47F0-A59A-C2F5B1398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2D6D81-CA35-4CB0-B204-9D11E72A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F5E3A-E896-4506-BB96-8523DE751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991B05-AAB9-490B-A0EB-DBB60C524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D4A4C3-34C7-4A88-B0B4-1F7EDB6396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A5AEE-9F77-4DBC-9ADB-12F10B2D3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2A78F-5A2C-490C-8AC0-8A603B272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5A72F1-E6D6-4F29-A587-1FAA4F811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855241-7CE3-4D90-933F-EAC25FDF0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CEC881-1CF6-4874-AE70-02068C7C2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9EFD-A6D9-4B96-BD09-4A05B4525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9A0423-28F4-4B38-ADF4-0DAA3EE5D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A49C2C-369D-4E19-A3D0-BE96F00A7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96BD7-5FA2-4C7E-B952-F30DAF05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F29CC8-C10F-4277-B73B-BE9FF4160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1E51B7-1688-41FC-946E-2A0560C86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6B9624-E152-4B9F-A0A7-587B81C873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AFE8ED-CAD5-4A24-A76A-DBF17C8D5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8B1219-B372-4ACF-AE3B-636A26927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B7DCBE-B852-477A-9CC3-71C0D53D7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C014DD-22BE-434A-8062-9B803C78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C264F-78A7-49E5-9919-BF2E5D3B274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1875A-D0D7-41C1-96AB-1C99A490D9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AD11-D991-429D-83D9-BE1225B79F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7D3B-65B6-479E-B398-E371DD25DD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1612E-B665-424C-8A67-E8634A9CDB0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53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B9D6-9809-4CE4-BF41-9A4E7D5A299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E7C3-B7F0-4E3A-A703-7C13FE166F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8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47E5A-945B-40BC-8720-36872AE0FC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F0570-77A0-4B6D-85AE-6AF6EFADE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62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AAEBB-9BDF-4F05-AE2B-24A2F44B9B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0EA3-634C-4FEE-8C76-59D9A7DA9D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7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59E53-3F2B-4422-82DC-0A7666FBC5F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89E0-B5CF-44DE-A498-584D8D585C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1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C713E-6A4F-4F69-BAF7-44C54FBA00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48F95-1492-4CB0-87C0-A5555A6CD6B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75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CAB1A-F9A3-47B7-BFDB-539592AF32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D2E27-A01E-4FA8-844E-7299668D550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E8F12-EA38-4F16-97FA-44E490D8BD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C488-5FB9-4F8B-8915-277A505FCF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E5F15-F763-40E8-BE9E-7F569D44567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4E41-40CE-498C-8DF0-CB09A5A535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0B969-CE1A-4BC5-9254-7550D0980E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8A031-2A78-48FC-8755-6FE856C7A0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8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62845-4AF6-40FF-85F1-FD783D2618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2CAA-96E8-43BF-9911-852099E885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93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64C0D-158D-4FD5-98F4-8F9A17669B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65AD9-5EF9-4E4D-8B78-BE50394DA4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97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39E14-D6DF-4280-AD9B-A654740222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954C-6A87-4C21-9593-CBF6B1FF67D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2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D1235-1F96-4EE7-A883-4A803DB4F5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875FA-2678-4D98-8CC5-039064DFE2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06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1FD9F-A6A5-4D25-8F23-446D40ADFE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CA47-447F-40E0-B885-870FF3FC37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E93EF-F5A6-47F4-A628-058B3A44963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12932-EDFF-416A-B0ED-144A90AC4C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5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7F3F-755D-4DE3-A2A5-1FA198DF602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A9B8E-5752-4DD3-AD0A-98F2DDC1789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19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28C6C-3C8F-4D74-8BB1-2C7D1B7592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418A-8549-43C6-84AB-CF88AB8F7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4F66F-31F8-4544-849B-1496D37EB4D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24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DA692-492C-465C-A7CF-35377AB1EE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F9EF-8831-414E-B693-81CEEDFEBC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128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031D-CC82-4B13-ABD4-89277098B5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39054-CE5A-4108-986D-C04F9B2B62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9F4AE-B483-48DD-AD6C-1D8F784C538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032DB-F49B-47CF-8F36-8FF28937A93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FA95-65FF-406A-9DD7-BAF6E834B4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4316F-F7BB-486E-9BE5-25B351A3495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B9A64-354B-4383-BB8C-B1F8891480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901AF-C606-4D1C-A79E-FF91153A42B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1" name="图片 40984" descr=""/>
          <p:cNvPicPr/>
          <p:nvPr/>
        </p:nvPicPr>
        <p:blipFill>
          <a:blip r:embed="rId1"/>
          <a:stretch/>
        </p:blipFill>
        <p:spPr>
          <a:xfrm>
            <a:off x="504720" y="1141560"/>
            <a:ext cx="8286840" cy="714240"/>
          </a:xfrm>
          <a:prstGeom prst="rect">
            <a:avLst/>
          </a:prstGeom>
          <a:ln w="0">
            <a:noFill/>
          </a:ln>
        </p:spPr>
      </p:pic>
      <p:pic>
        <p:nvPicPr>
          <p:cNvPr id="1332" name="图片 40985" descr=""/>
          <p:cNvPicPr/>
          <p:nvPr/>
        </p:nvPicPr>
        <p:blipFill>
          <a:blip r:embed="rId2"/>
          <a:stretch/>
        </p:blipFill>
        <p:spPr>
          <a:xfrm>
            <a:off x="103320" y="3244680"/>
            <a:ext cx="8048520" cy="2476800"/>
          </a:xfrm>
          <a:prstGeom prst="rect">
            <a:avLst/>
          </a:prstGeom>
          <a:ln w="0">
            <a:noFill/>
          </a:ln>
        </p:spPr>
      </p:pic>
      <p:sp>
        <p:nvSpPr>
          <p:cNvPr id="1333" name="矩形 40986"/>
          <p:cNvSpPr/>
          <p:nvPr/>
        </p:nvSpPr>
        <p:spPr>
          <a:xfrm>
            <a:off x="7375680" y="3784680"/>
            <a:ext cx="43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2" name="图片 132097" descr=""/>
          <p:cNvPicPr/>
          <p:nvPr/>
        </p:nvPicPr>
        <p:blipFill>
          <a:blip r:embed="rId1"/>
          <a:stretch/>
        </p:blipFill>
        <p:spPr>
          <a:xfrm>
            <a:off x="657360" y="1001880"/>
            <a:ext cx="5695920" cy="3076560"/>
          </a:xfrm>
          <a:prstGeom prst="rect">
            <a:avLst/>
          </a:prstGeom>
          <a:ln w="0">
            <a:noFill/>
          </a:ln>
        </p:spPr>
      </p:pic>
      <p:sp>
        <p:nvSpPr>
          <p:cNvPr id="1363" name="矩形 132098"/>
          <p:cNvSpPr/>
          <p:nvPr/>
        </p:nvSpPr>
        <p:spPr>
          <a:xfrm>
            <a:off x="885960" y="1549440"/>
            <a:ext cx="4611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矩形 132099"/>
          <p:cNvSpPr/>
          <p:nvPr/>
        </p:nvSpPr>
        <p:spPr>
          <a:xfrm>
            <a:off x="644400" y="2133720"/>
            <a:ext cx="4611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矩形 132100"/>
          <p:cNvSpPr/>
          <p:nvPr/>
        </p:nvSpPr>
        <p:spPr>
          <a:xfrm>
            <a:off x="657360" y="2717640"/>
            <a:ext cx="46116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矩形 132101"/>
          <p:cNvSpPr/>
          <p:nvPr/>
        </p:nvSpPr>
        <p:spPr>
          <a:xfrm>
            <a:off x="2041560" y="3289320"/>
            <a:ext cx="19828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3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1000"/>
                                        <p:tgtEl>
                                          <p:spTgt spid="13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1000"/>
                                        <p:tgtEl>
                                          <p:spTgt spid="13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1000"/>
                                        <p:tgtEl>
                                          <p:spTgt spid="1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7" name="图片 131073" descr=""/>
          <p:cNvPicPr/>
          <p:nvPr/>
        </p:nvPicPr>
        <p:blipFill>
          <a:blip r:embed="rId1"/>
          <a:stretch/>
        </p:blipFill>
        <p:spPr>
          <a:xfrm>
            <a:off x="739800" y="890640"/>
            <a:ext cx="5810400" cy="4086000"/>
          </a:xfrm>
          <a:prstGeom prst="rect">
            <a:avLst/>
          </a:prstGeom>
          <a:ln w="0">
            <a:noFill/>
          </a:ln>
        </p:spPr>
      </p:pic>
      <p:sp>
        <p:nvSpPr>
          <p:cNvPr id="1368" name="矩形 131074"/>
          <p:cNvSpPr/>
          <p:nvPr/>
        </p:nvSpPr>
        <p:spPr>
          <a:xfrm>
            <a:off x="746280" y="1892160"/>
            <a:ext cx="4700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矩形 131075"/>
          <p:cNvSpPr/>
          <p:nvPr/>
        </p:nvSpPr>
        <p:spPr>
          <a:xfrm>
            <a:off x="1800360" y="2438280"/>
            <a:ext cx="4700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131076"/>
          <p:cNvSpPr/>
          <p:nvPr/>
        </p:nvSpPr>
        <p:spPr>
          <a:xfrm>
            <a:off x="2422440" y="3009960"/>
            <a:ext cx="4700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矩形 131077"/>
          <p:cNvSpPr/>
          <p:nvPr/>
        </p:nvSpPr>
        <p:spPr>
          <a:xfrm>
            <a:off x="2600280" y="3556080"/>
            <a:ext cx="47005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矩形 131078"/>
          <p:cNvSpPr/>
          <p:nvPr/>
        </p:nvSpPr>
        <p:spPr>
          <a:xfrm>
            <a:off x="3933720" y="4165560"/>
            <a:ext cx="1258920" cy="74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3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3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3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3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3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3" name="图片 130049" descr=""/>
          <p:cNvPicPr/>
          <p:nvPr/>
        </p:nvPicPr>
        <p:blipFill>
          <a:blip r:embed="rId1"/>
          <a:stretch/>
        </p:blipFill>
        <p:spPr>
          <a:xfrm>
            <a:off x="685800" y="822240"/>
            <a:ext cx="5486400" cy="3867120"/>
          </a:xfrm>
          <a:prstGeom prst="rect">
            <a:avLst/>
          </a:prstGeom>
          <a:ln w="0">
            <a:noFill/>
          </a:ln>
        </p:spPr>
      </p:pic>
      <p:sp>
        <p:nvSpPr>
          <p:cNvPr id="1374" name="矩形 130050"/>
          <p:cNvSpPr/>
          <p:nvPr/>
        </p:nvSpPr>
        <p:spPr>
          <a:xfrm>
            <a:off x="758880" y="1778040"/>
            <a:ext cx="499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矩形 130053"/>
          <p:cNvSpPr/>
          <p:nvPr/>
        </p:nvSpPr>
        <p:spPr>
          <a:xfrm>
            <a:off x="1419120" y="2349360"/>
            <a:ext cx="499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矩形 130054"/>
          <p:cNvSpPr/>
          <p:nvPr/>
        </p:nvSpPr>
        <p:spPr>
          <a:xfrm>
            <a:off x="1292400" y="2895480"/>
            <a:ext cx="4992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矩形 130055"/>
          <p:cNvSpPr/>
          <p:nvPr/>
        </p:nvSpPr>
        <p:spPr>
          <a:xfrm>
            <a:off x="1330200" y="3505320"/>
            <a:ext cx="499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矩形 130056"/>
          <p:cNvSpPr/>
          <p:nvPr/>
        </p:nvSpPr>
        <p:spPr>
          <a:xfrm>
            <a:off x="1266840" y="4051440"/>
            <a:ext cx="4992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3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3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3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3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9" name="图片 129025" descr=""/>
          <p:cNvPicPr/>
          <p:nvPr/>
        </p:nvPicPr>
        <p:blipFill>
          <a:blip r:embed="rId1"/>
          <a:stretch/>
        </p:blipFill>
        <p:spPr>
          <a:xfrm>
            <a:off x="349200" y="708120"/>
            <a:ext cx="8039160" cy="6076800"/>
          </a:xfrm>
          <a:prstGeom prst="rect">
            <a:avLst/>
          </a:prstGeom>
          <a:ln w="0">
            <a:noFill/>
          </a:ln>
        </p:spPr>
      </p:pic>
      <p:sp>
        <p:nvSpPr>
          <p:cNvPr id="1380" name="矩形 129026"/>
          <p:cNvSpPr/>
          <p:nvPr/>
        </p:nvSpPr>
        <p:spPr>
          <a:xfrm>
            <a:off x="949320" y="2806560"/>
            <a:ext cx="67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矩形 129027"/>
          <p:cNvSpPr/>
          <p:nvPr/>
        </p:nvSpPr>
        <p:spPr>
          <a:xfrm>
            <a:off x="860400" y="3416400"/>
            <a:ext cx="489096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矩形 129028"/>
          <p:cNvSpPr/>
          <p:nvPr/>
        </p:nvSpPr>
        <p:spPr>
          <a:xfrm>
            <a:off x="695160" y="4343400"/>
            <a:ext cx="67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矩形 129029"/>
          <p:cNvSpPr/>
          <p:nvPr/>
        </p:nvSpPr>
        <p:spPr>
          <a:xfrm>
            <a:off x="593640" y="4940280"/>
            <a:ext cx="67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矩形 129030"/>
          <p:cNvSpPr/>
          <p:nvPr/>
        </p:nvSpPr>
        <p:spPr>
          <a:xfrm>
            <a:off x="593640" y="5473800"/>
            <a:ext cx="6732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矩形 129031"/>
          <p:cNvSpPr/>
          <p:nvPr/>
        </p:nvSpPr>
        <p:spPr>
          <a:xfrm>
            <a:off x="657360" y="6019920"/>
            <a:ext cx="1703160" cy="703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1000"/>
                                        <p:tgtEl>
                                          <p:spTgt spid="13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1000"/>
                                        <p:tgtEl>
                                          <p:spTgt spid="13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1000"/>
                                        <p:tgtEl>
                                          <p:spTgt spid="13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1000"/>
                                        <p:tgtEl>
                                          <p:spTgt spid="13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1000"/>
                                        <p:tgtEl>
                                          <p:spTgt spid="13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3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6" name="图片 128001" descr=""/>
          <p:cNvPicPr/>
          <p:nvPr/>
        </p:nvPicPr>
        <p:blipFill>
          <a:blip r:embed="rId1"/>
          <a:stretch/>
        </p:blipFill>
        <p:spPr>
          <a:xfrm>
            <a:off x="233280" y="861840"/>
            <a:ext cx="8067600" cy="5362920"/>
          </a:xfrm>
          <a:prstGeom prst="rect">
            <a:avLst/>
          </a:prstGeom>
          <a:ln w="0">
            <a:noFill/>
          </a:ln>
        </p:spPr>
      </p:pic>
      <p:sp>
        <p:nvSpPr>
          <p:cNvPr id="1387" name="矩形 128002"/>
          <p:cNvSpPr/>
          <p:nvPr/>
        </p:nvSpPr>
        <p:spPr>
          <a:xfrm>
            <a:off x="847800" y="1994040"/>
            <a:ext cx="61992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128003"/>
          <p:cNvSpPr/>
          <p:nvPr/>
        </p:nvSpPr>
        <p:spPr>
          <a:xfrm>
            <a:off x="923760" y="2870280"/>
            <a:ext cx="619920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128004"/>
          <p:cNvSpPr/>
          <p:nvPr/>
        </p:nvSpPr>
        <p:spPr>
          <a:xfrm>
            <a:off x="873000" y="3809880"/>
            <a:ext cx="4776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128005"/>
          <p:cNvSpPr/>
          <p:nvPr/>
        </p:nvSpPr>
        <p:spPr>
          <a:xfrm>
            <a:off x="898560" y="4305240"/>
            <a:ext cx="619920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128006"/>
          <p:cNvSpPr/>
          <p:nvPr/>
        </p:nvSpPr>
        <p:spPr>
          <a:xfrm>
            <a:off x="746280" y="5283360"/>
            <a:ext cx="47764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矩形 128007"/>
          <p:cNvSpPr/>
          <p:nvPr/>
        </p:nvSpPr>
        <p:spPr>
          <a:xfrm>
            <a:off x="720720" y="5765760"/>
            <a:ext cx="4776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1000"/>
                                        <p:tgtEl>
                                          <p:spTgt spid="13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7" dur="1000"/>
                                        <p:tgtEl>
                                          <p:spTgt spid="13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3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3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2" dur="1000"/>
                                        <p:tgtEl>
                                          <p:spTgt spid="13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7" dur="1000"/>
                                        <p:tgtEl>
                                          <p:spTgt spid="13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3" name="图片 126977" descr=""/>
          <p:cNvPicPr/>
          <p:nvPr/>
        </p:nvPicPr>
        <p:blipFill>
          <a:blip r:embed="rId1"/>
          <a:stretch/>
        </p:blipFill>
        <p:spPr>
          <a:xfrm>
            <a:off x="217440" y="901800"/>
            <a:ext cx="8048520" cy="4190760"/>
          </a:xfrm>
          <a:prstGeom prst="rect">
            <a:avLst/>
          </a:prstGeom>
          <a:ln w="0">
            <a:noFill/>
          </a:ln>
        </p:spPr>
      </p:pic>
      <p:sp>
        <p:nvSpPr>
          <p:cNvPr id="1394" name="矩形 126978"/>
          <p:cNvSpPr/>
          <p:nvPr/>
        </p:nvSpPr>
        <p:spPr>
          <a:xfrm>
            <a:off x="797040" y="3048120"/>
            <a:ext cx="734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矩形 126979"/>
          <p:cNvSpPr/>
          <p:nvPr/>
        </p:nvSpPr>
        <p:spPr>
          <a:xfrm>
            <a:off x="758880" y="3581280"/>
            <a:ext cx="734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矩形 126980"/>
          <p:cNvSpPr/>
          <p:nvPr/>
        </p:nvSpPr>
        <p:spPr>
          <a:xfrm>
            <a:off x="784080" y="4102200"/>
            <a:ext cx="734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矩形 126981"/>
          <p:cNvSpPr/>
          <p:nvPr/>
        </p:nvSpPr>
        <p:spPr>
          <a:xfrm>
            <a:off x="784080" y="4660920"/>
            <a:ext cx="7342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3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3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3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9" dur="1000"/>
                                        <p:tgtEl>
                                          <p:spTgt spid="13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8" name="图片 125953" descr=""/>
          <p:cNvPicPr/>
          <p:nvPr/>
        </p:nvPicPr>
        <p:blipFill>
          <a:blip r:embed="rId1"/>
          <a:stretch/>
        </p:blipFill>
        <p:spPr>
          <a:xfrm>
            <a:off x="250920" y="835200"/>
            <a:ext cx="805788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9" name="图片 124930" descr=""/>
          <p:cNvPicPr/>
          <p:nvPr/>
        </p:nvPicPr>
        <p:blipFill>
          <a:blip r:embed="rId1"/>
          <a:stretch/>
        </p:blipFill>
        <p:spPr>
          <a:xfrm>
            <a:off x="752400" y="885960"/>
            <a:ext cx="7639200" cy="5086080"/>
          </a:xfrm>
          <a:prstGeom prst="rect">
            <a:avLst/>
          </a:prstGeom>
          <a:ln w="0">
            <a:noFill/>
          </a:ln>
        </p:spPr>
      </p:pic>
      <p:sp>
        <p:nvSpPr>
          <p:cNvPr id="1400" name="矩形 124931"/>
          <p:cNvSpPr/>
          <p:nvPr/>
        </p:nvSpPr>
        <p:spPr>
          <a:xfrm>
            <a:off x="860400" y="851040"/>
            <a:ext cx="7392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矩形 124932"/>
          <p:cNvSpPr/>
          <p:nvPr/>
        </p:nvSpPr>
        <p:spPr>
          <a:xfrm>
            <a:off x="809640" y="1409760"/>
            <a:ext cx="721512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矩形 124933"/>
          <p:cNvSpPr/>
          <p:nvPr/>
        </p:nvSpPr>
        <p:spPr>
          <a:xfrm>
            <a:off x="784080" y="2324160"/>
            <a:ext cx="7392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矩形 124934"/>
          <p:cNvSpPr/>
          <p:nvPr/>
        </p:nvSpPr>
        <p:spPr>
          <a:xfrm>
            <a:off x="885960" y="2832120"/>
            <a:ext cx="745632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矩形 124935"/>
          <p:cNvSpPr/>
          <p:nvPr/>
        </p:nvSpPr>
        <p:spPr>
          <a:xfrm>
            <a:off x="822240" y="3772080"/>
            <a:ext cx="745668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矩形 124936"/>
          <p:cNvSpPr/>
          <p:nvPr/>
        </p:nvSpPr>
        <p:spPr>
          <a:xfrm>
            <a:off x="771480" y="4673520"/>
            <a:ext cx="739296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矩形 124937"/>
          <p:cNvSpPr/>
          <p:nvPr/>
        </p:nvSpPr>
        <p:spPr>
          <a:xfrm>
            <a:off x="898560" y="5245200"/>
            <a:ext cx="7456320" cy="728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4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4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4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4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1000"/>
                                        <p:tgtEl>
                                          <p:spTgt spid="14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1" dur="1000"/>
                                        <p:tgtEl>
                                          <p:spTgt spid="14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6" dur="1000"/>
                                        <p:tgtEl>
                                          <p:spTgt spid="14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7" name="图片 123905" descr=""/>
          <p:cNvPicPr/>
          <p:nvPr/>
        </p:nvPicPr>
        <p:blipFill>
          <a:blip r:embed="rId1"/>
          <a:stretch/>
        </p:blipFill>
        <p:spPr>
          <a:xfrm>
            <a:off x="903240" y="958680"/>
            <a:ext cx="5305320" cy="1486080"/>
          </a:xfrm>
          <a:prstGeom prst="rect">
            <a:avLst/>
          </a:prstGeom>
          <a:ln w="0">
            <a:noFill/>
          </a:ln>
        </p:spPr>
      </p:pic>
      <p:sp>
        <p:nvSpPr>
          <p:cNvPr id="1408" name="矩形 123906"/>
          <p:cNvSpPr/>
          <p:nvPr/>
        </p:nvSpPr>
        <p:spPr>
          <a:xfrm>
            <a:off x="1076400" y="952560"/>
            <a:ext cx="4916520" cy="8427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矩形 123907"/>
          <p:cNvSpPr/>
          <p:nvPr/>
        </p:nvSpPr>
        <p:spPr>
          <a:xfrm>
            <a:off x="923760" y="1968480"/>
            <a:ext cx="52088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3" dur="1000"/>
                                        <p:tgtEl>
                                          <p:spTgt spid="14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8" dur="1000"/>
                                        <p:tgtEl>
                                          <p:spTgt spid="14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图片 140289" descr=""/>
          <p:cNvPicPr/>
          <p:nvPr/>
        </p:nvPicPr>
        <p:blipFill>
          <a:blip r:embed="rId1"/>
          <a:stretch/>
        </p:blipFill>
        <p:spPr>
          <a:xfrm>
            <a:off x="298440" y="944640"/>
            <a:ext cx="8115480" cy="4257720"/>
          </a:xfrm>
          <a:prstGeom prst="rect">
            <a:avLst/>
          </a:prstGeom>
          <a:ln w="0">
            <a:noFill/>
          </a:ln>
        </p:spPr>
      </p:pic>
      <p:sp>
        <p:nvSpPr>
          <p:cNvPr id="1335" name="矩形 140290"/>
          <p:cNvSpPr/>
          <p:nvPr/>
        </p:nvSpPr>
        <p:spPr>
          <a:xfrm>
            <a:off x="7629480" y="156204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矩形 140291"/>
          <p:cNvSpPr/>
          <p:nvPr/>
        </p:nvSpPr>
        <p:spPr>
          <a:xfrm>
            <a:off x="7629480" y="419112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3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3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7" name="图片 139266" descr=""/>
          <p:cNvPicPr/>
          <p:nvPr/>
        </p:nvPicPr>
        <p:blipFill>
          <a:blip r:embed="rId1"/>
          <a:stretch/>
        </p:blipFill>
        <p:spPr>
          <a:xfrm>
            <a:off x="255600" y="880920"/>
            <a:ext cx="8048520" cy="2657520"/>
          </a:xfrm>
          <a:prstGeom prst="rect">
            <a:avLst/>
          </a:prstGeom>
          <a:ln w="0">
            <a:noFill/>
          </a:ln>
        </p:spPr>
      </p:pic>
      <p:sp>
        <p:nvSpPr>
          <p:cNvPr id="1338" name="矩形 139267"/>
          <p:cNvSpPr/>
          <p:nvPr/>
        </p:nvSpPr>
        <p:spPr>
          <a:xfrm>
            <a:off x="7540560" y="15112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1000"/>
                                        <p:tgtEl>
                                          <p:spTgt spid="13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9" name="图片 138241" descr=""/>
          <p:cNvPicPr/>
          <p:nvPr/>
        </p:nvPicPr>
        <p:blipFill>
          <a:blip r:embed="rId1"/>
          <a:stretch/>
        </p:blipFill>
        <p:spPr>
          <a:xfrm>
            <a:off x="357120" y="857160"/>
            <a:ext cx="8048520" cy="5829480"/>
          </a:xfrm>
          <a:prstGeom prst="rect">
            <a:avLst/>
          </a:prstGeom>
          <a:ln w="0">
            <a:noFill/>
          </a:ln>
        </p:spPr>
      </p:pic>
      <p:sp>
        <p:nvSpPr>
          <p:cNvPr id="1340" name="矩形 138242"/>
          <p:cNvSpPr/>
          <p:nvPr/>
        </p:nvSpPr>
        <p:spPr>
          <a:xfrm>
            <a:off x="7616880" y="17524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矩形 138243"/>
          <p:cNvSpPr/>
          <p:nvPr/>
        </p:nvSpPr>
        <p:spPr>
          <a:xfrm>
            <a:off x="7655040" y="515628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3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3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2" name="图片 137217" descr=""/>
          <p:cNvPicPr/>
          <p:nvPr/>
        </p:nvPicPr>
        <p:blipFill>
          <a:blip r:embed="rId1"/>
          <a:stretch/>
        </p:blipFill>
        <p:spPr>
          <a:xfrm>
            <a:off x="318960" y="941400"/>
            <a:ext cx="8048880" cy="5381640"/>
          </a:xfrm>
          <a:prstGeom prst="rect">
            <a:avLst/>
          </a:prstGeom>
          <a:ln w="0">
            <a:noFill/>
          </a:ln>
        </p:spPr>
      </p:pic>
      <p:sp>
        <p:nvSpPr>
          <p:cNvPr id="1343" name="矩形 137218"/>
          <p:cNvSpPr/>
          <p:nvPr/>
        </p:nvSpPr>
        <p:spPr>
          <a:xfrm>
            <a:off x="7553160" y="535932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4" dur="1000"/>
                                        <p:tgtEl>
                                          <p:spTgt spid="1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4" name="图片 136193" descr=""/>
          <p:cNvPicPr/>
          <p:nvPr/>
        </p:nvPicPr>
        <p:blipFill>
          <a:blip r:embed="rId1"/>
          <a:stretch/>
        </p:blipFill>
        <p:spPr>
          <a:xfrm>
            <a:off x="281160" y="981000"/>
            <a:ext cx="8048520" cy="399960"/>
          </a:xfrm>
          <a:prstGeom prst="rect">
            <a:avLst/>
          </a:prstGeom>
          <a:ln w="0">
            <a:noFill/>
          </a:ln>
        </p:spPr>
      </p:pic>
      <p:pic>
        <p:nvPicPr>
          <p:cNvPr id="1345" name="图片 136194" descr=""/>
          <p:cNvPicPr/>
          <p:nvPr/>
        </p:nvPicPr>
        <p:blipFill>
          <a:blip r:embed="rId2"/>
          <a:stretch/>
        </p:blipFill>
        <p:spPr>
          <a:xfrm>
            <a:off x="763560" y="1442880"/>
            <a:ext cx="7591320" cy="4429440"/>
          </a:xfrm>
          <a:prstGeom prst="rect">
            <a:avLst/>
          </a:prstGeom>
          <a:ln w="0">
            <a:noFill/>
          </a:ln>
        </p:spPr>
      </p:pic>
      <p:sp>
        <p:nvSpPr>
          <p:cNvPr id="1346" name="矩形 136195"/>
          <p:cNvSpPr/>
          <p:nvPr/>
        </p:nvSpPr>
        <p:spPr>
          <a:xfrm>
            <a:off x="7616880" y="4343400"/>
            <a:ext cx="433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7" name="图片 135169" descr=""/>
          <p:cNvPicPr/>
          <p:nvPr/>
        </p:nvPicPr>
        <p:blipFill>
          <a:blip r:embed="rId1"/>
          <a:stretch/>
        </p:blipFill>
        <p:spPr>
          <a:xfrm>
            <a:off x="287280" y="820800"/>
            <a:ext cx="8239320" cy="5267160"/>
          </a:xfrm>
          <a:prstGeom prst="rect">
            <a:avLst/>
          </a:prstGeom>
          <a:ln w="0">
            <a:noFill/>
          </a:ln>
        </p:spPr>
      </p:pic>
      <p:sp>
        <p:nvSpPr>
          <p:cNvPr id="1348" name="矩形 135170"/>
          <p:cNvSpPr/>
          <p:nvPr/>
        </p:nvSpPr>
        <p:spPr>
          <a:xfrm>
            <a:off x="4226040" y="1955880"/>
            <a:ext cx="5857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矩形 135171"/>
          <p:cNvSpPr/>
          <p:nvPr/>
        </p:nvSpPr>
        <p:spPr>
          <a:xfrm>
            <a:off x="4187880" y="2552760"/>
            <a:ext cx="54756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35172"/>
          <p:cNvSpPr/>
          <p:nvPr/>
        </p:nvSpPr>
        <p:spPr>
          <a:xfrm>
            <a:off x="7718400" y="2730600"/>
            <a:ext cx="674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5173"/>
          <p:cNvSpPr/>
          <p:nvPr/>
        </p:nvSpPr>
        <p:spPr>
          <a:xfrm>
            <a:off x="1050840" y="3517920"/>
            <a:ext cx="13352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矩形 135174"/>
          <p:cNvSpPr/>
          <p:nvPr/>
        </p:nvSpPr>
        <p:spPr>
          <a:xfrm>
            <a:off x="7400880" y="4127400"/>
            <a:ext cx="547560" cy="766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135175"/>
          <p:cNvSpPr/>
          <p:nvPr/>
        </p:nvSpPr>
        <p:spPr>
          <a:xfrm>
            <a:off x="6283440" y="5600880"/>
            <a:ext cx="674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3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4" name="图片 134145" descr=""/>
          <p:cNvPicPr/>
          <p:nvPr/>
        </p:nvPicPr>
        <p:blipFill>
          <a:blip r:embed="rId1"/>
          <a:stretch/>
        </p:blipFill>
        <p:spPr>
          <a:xfrm>
            <a:off x="187200" y="627120"/>
            <a:ext cx="8058240" cy="6238800"/>
          </a:xfrm>
          <a:prstGeom prst="rect">
            <a:avLst/>
          </a:prstGeom>
          <a:ln w="0">
            <a:noFill/>
          </a:ln>
        </p:spPr>
      </p:pic>
      <p:sp>
        <p:nvSpPr>
          <p:cNvPr id="1355" name="矩形 134146"/>
          <p:cNvSpPr/>
          <p:nvPr/>
        </p:nvSpPr>
        <p:spPr>
          <a:xfrm>
            <a:off x="1711440" y="2260440"/>
            <a:ext cx="174132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矩形 134147"/>
          <p:cNvSpPr/>
          <p:nvPr/>
        </p:nvSpPr>
        <p:spPr>
          <a:xfrm>
            <a:off x="1114560" y="2857680"/>
            <a:ext cx="433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矩形 134148"/>
          <p:cNvSpPr/>
          <p:nvPr/>
        </p:nvSpPr>
        <p:spPr>
          <a:xfrm>
            <a:off x="2803680" y="5969160"/>
            <a:ext cx="2058840" cy="7664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1000"/>
                                        <p:tgtEl>
                                          <p:spTgt spid="13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3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8" name="图片 133121" descr=""/>
          <p:cNvPicPr/>
          <p:nvPr/>
        </p:nvPicPr>
        <p:blipFill>
          <a:blip r:embed="rId1"/>
          <a:stretch/>
        </p:blipFill>
        <p:spPr>
          <a:xfrm>
            <a:off x="309600" y="857160"/>
            <a:ext cx="4181400" cy="3390840"/>
          </a:xfrm>
          <a:prstGeom prst="rect">
            <a:avLst/>
          </a:prstGeom>
          <a:ln w="0">
            <a:noFill/>
          </a:ln>
        </p:spPr>
      </p:pic>
      <p:sp>
        <p:nvSpPr>
          <p:cNvPr id="1359" name="矩形 133122"/>
          <p:cNvSpPr/>
          <p:nvPr/>
        </p:nvSpPr>
        <p:spPr>
          <a:xfrm>
            <a:off x="911160" y="2590920"/>
            <a:ext cx="315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矩形 133123"/>
          <p:cNvSpPr/>
          <p:nvPr/>
        </p:nvSpPr>
        <p:spPr>
          <a:xfrm>
            <a:off x="1050840" y="3187800"/>
            <a:ext cx="31514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矩形 133124"/>
          <p:cNvSpPr/>
          <p:nvPr/>
        </p:nvSpPr>
        <p:spPr>
          <a:xfrm>
            <a:off x="1038240" y="3733920"/>
            <a:ext cx="315108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3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1T01:16:47Z</dcterms:modified>
  <cp:revision>6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